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5369-2BA8-4615-A6A9-9B66915E1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DAF8-3D1D-4D5A-865A-3692E2FCA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D508-6C52-4C84-9DB5-2D5E1D4CA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A069-5DC0-409C-8C4C-C2994C58C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752A-416C-4086-9160-EA2AB53BED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9331-F245-4D98-A4E0-96419FF0C7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4E89-BCC3-4830-84EC-4E9A42F607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ADBC-CAEA-4B79-BB7A-DA53DCAB5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2B84-491B-4CFA-98C7-12420A1D9C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CEC3C-9C6D-45E0-9E67-65D182F712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CBE7-0C5A-4720-88EF-AA934BF783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C40E-D66E-40FA-9493-077D99C64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B65A-E720-4208-AF09-0F262B987B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148B-196B-40D1-994D-9514BDC02A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D7D0-071B-49ED-902F-6AACBF5AB6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331A-E272-496D-834E-B22C74943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06508-4244-4677-A4AA-E78207B4CC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7A5-7B70-4C3C-8FBE-3FFD999742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7DD-068A-4971-8DED-14F3A3AF98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E6A-2141-42FA-9FCE-462B819D4B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E2B-2603-4C6A-9A0E-81CDCEBDE2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198F-2C7E-4391-B78A-8A5AB25BE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CBFB-C889-453F-A06B-3AB43A0AB1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390-FCDF-45F1-A911-71A335E1E9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868-C1AE-4106-A2CC-EFA25D5680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B33-91F5-4F32-ABED-8D3EB752F9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848-DB88-4E79-9EBD-C9631FA6C6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BC6-DD32-4CF9-9622-E19E486B48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867-E4BA-44C3-BB4C-996571FE71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99D-C51E-4C9F-BF6E-BEFE57728A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6C51F-128A-496D-8BC8-1E187FE637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DD81D-38BA-439C-A668-88E65C27A9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318C-BAE6-42DD-8E0D-B84EBC844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855D-CF33-4495-BB37-473B18C80E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CC1B3-9B64-41AE-B0C0-6FC4231539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58C84-ABBD-4BFB-968C-6D25B0B4D0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BEA71-8511-41FF-9BF8-B313A7E224F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2390-68D5-4628-B753-D93029333A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690B6-A216-479A-A63C-23B441D7E9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63DBA-6CB2-476B-B47C-F221E504E53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1E7B5-4F80-4751-9367-09A79CBD7E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0F20-7F61-4102-8725-2BB4951A52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3B218-7B52-492E-A463-AE443449194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492A-9B3B-4102-9F95-E80F1BD7D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90F7-A9EF-47DB-918F-1651CC9C7B6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98BB-D427-43D2-8C01-8B3BC7E096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E5DC6-31E7-4923-98DC-19557DAD6B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00A08-AE8C-40FA-B40A-6A83F6DCBA6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843E7-39EA-43CB-AD5D-600AFEB9A55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9B97-BF2F-4FC9-8C89-84001942B77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23AB3-3B26-467A-95AB-627B267189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35CA9-7BA6-4717-B3A3-EA0C484B297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8C28-9955-4E02-9881-A93CA71382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BC325-42A8-4713-B8FA-F5A60324B6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A3D54-AC9C-405E-AC1A-5422D31B9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88F3-BF61-4125-ADEA-234A9085FA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14449-839C-4F03-9BD3-BA1EF8D48FE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DDF7-BA3A-482B-B0FD-0F3F38CAD13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52EE-BF47-47CA-8BED-1EC18F8A76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5AA1-F85D-49AC-8962-94339F0FFF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F1E-A047-41B4-BFD7-D69EC0B959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6753-C6FB-4CCD-A71D-808C4F449A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3879-F47D-408C-B5D0-6C9639B3FB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2F0-C877-4353-8865-DB2F40EC7D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5B1B-6A51-4332-AD56-8A552230683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FFEC-2839-462D-9EDC-05EFAF65B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71C8-E349-4745-90D8-A9C54505200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DBB9-E7A4-4068-82F4-1DCBF7B6D5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EA9C-AFD5-4BD7-9CED-12F6AE7C53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AA11-4908-40EE-B47B-5B8A875D7E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55F02-5B61-4786-B49A-CE9625EEED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ECAA8-380F-4700-8F8F-B91AA32250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EC350-FE3F-48DC-B575-38E8DDEB62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A6E100-1FFF-468C-8617-27CB658BC2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B6B509-62F2-4509-8D75-AA1C83A337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46748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252FF-F33B-48D5-A5FF-D7AEAE31A3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B3E3C-3963-4A02-BB6F-76EE6C9D1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BF4B-659E-4176-B9EE-AEE15758F1D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58EB8-9104-45B4-A007-AF03D95A932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A844A-71DF-4C45-B09F-F148B4B360E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4CE38-EFBA-4320-9F9B-AD865AB627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283280" y="434628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DA38E-962A-4B57-A2BB-4043B89994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98188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506920" y="159984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298188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506920" y="434628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7656B-FBD4-44E7-80E6-302790DED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59984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2DB7-F879-4C00-9AD1-4AB360D28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72760" y="50356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2BEA-1279-41FA-B410-2BFB7A44B28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860F-8501-4748-B4E4-D7FBE9996A1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A4BB-ECAF-4155-8903-CC768B271FF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1487160" y="50356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0C10-D1D1-4183-9369-C594FD44961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5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1201-DDAB-4F02-AA6E-6003F378402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6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7041-353D-4BCC-9A38-21489C1BD59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Lucida Grande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18288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7"/>
          </p:nvPr>
        </p:nvSpPr>
        <p:spPr>
          <a:xfrm>
            <a:off x="827676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7B84-C588-4920-9A72-849B04F691B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1473120" y="50356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9FD-697F-467A-BE50-0717389251E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Lucida Grande"/>
              </a:rPr>
              <a:t>LIBRARY SPOT</a:t>
            </a:r>
            <a:endParaRPr b="0" lang="en-US" sz="30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1800" spc="-1" strike="noStrike">
                <a:solidFill>
                  <a:srgbClr val="4e5b6f"/>
                </a:solidFill>
                <a:latin typeface="Lucida Grande"/>
                <a:ea typeface="ヒラギノ角ゴ ProN W6"/>
              </a:rPr>
              <a:t>	</a:t>
            </a:r>
            <a:r>
              <a:rPr b="1" lang="en-US" sz="2000" spc="-1" strike="noStrike">
                <a:solidFill>
                  <a:srgbClr val="4e5b6f"/>
                </a:solidFill>
                <a:latin typeface="Lucida Grande"/>
              </a:rPr>
              <a:t>Muny Choeu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0A25-426E-4BBF-BA56-0D80531B73A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BD1-9910-440B-BF05-B01459C8EBE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96AD-8B17-4568-9D01-646836BD87B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509-4769-42F7-848C-25F974EDB6F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1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464-137C-4FB7-A09B-470336BCA1C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FB8-7591-49E3-A1B7-7CD8A13EC00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8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1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6C20-0CFD-43A8-834B-C69C948AC0A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8D8-79BA-4FD0-843D-4A804CA1D58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Lucida Grande"/>
              </a:rPr>
              <a:t>LIBRARYSPOT.COM</a:t>
            </a:r>
            <a:endParaRPr b="0" lang="en-US" sz="32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brary Spot is a free virtual library resource center for education and students, librarian and their patrons families, business and just about anyone exploring the web for valuable research information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s is great web site to look in when you’re doing a research paper or just searching for particular book, I find this site very useful for my research paper and like the fact that it can give me certain resource I need pending on what I’m looking for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2A5B-A60B-492C-8B02-C50AB432A8F9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8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F491-FBBF-4BEB-9D3B-694C5B3D194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0576-5D60-4F83-B62C-26081FD2E84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65B3-B874-4E31-A950-8124E1D86CE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Lucida Grande"/>
              </a:rPr>
              <a:t>INFORMATION OVERLOAD</a:t>
            </a:r>
            <a:endParaRPr b="0" lang="en-US" sz="44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brary spot breaks through the information overload of the web and bring you only the best library and reference site together with insightful editorial in one in one user-friendly spot.  Site features are hand selected  and reviewed by their editorial team for exceptional quality, content and utilit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4461-2914-4129-BECB-08EB1177030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E460-AC52-4E6F-BC52-C490D9F8C41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Lucida Grande"/>
              </a:rPr>
              <a:t>LIBRARIES, READING ROOM, REFERENCE DESK, LIBRARY SPOT.</a:t>
            </a:r>
            <a:endParaRPr b="0" lang="en-US" sz="2800" spc="-1" strike="noStrike">
              <a:solidFill>
                <a:srgbClr val="4e5b6f"/>
              </a:solidFill>
              <a:latin typeface="Lucida Gran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ibrary spot is the first in a family vertical information portals designed to make findings the best topical information on the internet a quick, easy and enjoyable experienc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-273240">
              <a:spcBef>
                <a:spcPts val="601"/>
              </a:spcBef>
              <a:buClr>
                <a:srgbClr val="7fd13b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 find this site very useful and helpful for those in school, who are looking or academic resource, books, and referenc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8277120" y="5842080"/>
            <a:ext cx="31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5CE5-CD85-4ED1-9254-746281A26E4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8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twork User</dc:creator>
  <dc:description/>
  <cp:keywords/>
  <dc:language>en-US</dc:language>
  <cp:lastModifiedBy>training</cp:lastModifiedBy>
  <dcterms:modified xsi:type="dcterms:W3CDTF">2010-11-13T14:47:30Z</dcterms:modified>
  <cp:revision>6</cp:revision>
  <dc:subject/>
  <dc:title>Library Spot</dc:title>
</cp:coreProperties>
</file>